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2"/>
          <p:cNvSpPr>
            <a:spLocks noGrp="1"/>
          </p:cNvSpPr>
          <p:nvPr>
            <p:ph type="dt" idx="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1" name="PlaceHolder 6"/>
          <p:cNvSpPr>
            <a:spLocks noGrp="1"/>
          </p:cNvSpPr>
          <p:nvPr>
            <p:ph type="sldNum" idx="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52A8-9B6B-4F2A-98DC-F0EE54ED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2151-D8D7-436D-BEF0-8007C4EA0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C6FE-FB84-4FAC-9D99-F159192D3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B177-9E8F-4582-886C-186EA5CF9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6A0B-4315-4277-8ED7-616257BCF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7896-DC27-4EA0-9BA1-F5F24C0C5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E989-6524-4545-BBA5-6BABDC11C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BAE5-EA0D-41CF-AD92-9366B2EB8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8DD1-B9AE-4463-8EC4-849E28BE6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AB49-BAEF-489A-AF92-A80D590A3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5F19-C3B3-44D2-B7DB-998407499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85E3-2682-4EE0-8A8E-C38DCF643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1DE9-A32F-4DA8-B620-307917E74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406F-A320-4CC6-95CA-B62354362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D54B-EF8B-4CA3-A066-040F16146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9C98-EBEE-4E40-BF95-886D18120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B1A6-DB3F-465C-A38C-CF1B326A8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EE46-4696-43F1-9EDF-155185589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F31A-2D38-4C8E-9785-AD134ADBE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D5A6-4547-49C2-B1D2-ED71D7C88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1FA1-5D2F-4C0B-B916-84B6ACD29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9A5F-EF6C-434B-B0AE-DFAB3F47B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8351-EE2B-41C6-9E44-369553DAE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707E-CC4E-4C1C-867A-A7566D7E9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0564-533C-4EDB-8F40-9476370F2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BCE8-A52E-4704-8774-581ADEADC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713E-AFCE-4849-92D6-159F1F21F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85CC-0C4B-42D1-BDC3-93099311F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B418-E38C-4CD6-88E0-44BFE0780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827F-535E-43FC-B3D2-18E9AE735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8A9F-F8DF-4E30-B855-7448358FE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ED79A0-6A32-4AB8-A12F-6A4FABDD78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73634-A8CA-4396-99C8-23C712638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DACC41-A642-432F-BA63-90130E948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3A8307-4ACF-40C0-9EEF-8A2145E6B1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68D9E6-9F27-4A1F-A9A2-1FDE5A5889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E92B94-5B73-4B11-976D-16F77E54114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C0C7C0-B730-4306-BBCD-C22C9B5E19D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984394-C2C7-420F-B7DE-93B486D735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33DB81-1999-40B9-B5F8-3A83942D84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745753-636D-4F11-B5A5-984CB63967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9D469D-AFB8-4A68-B33F-6AAA397ABE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2DB14A-6890-4565-BA1B-2435F7BC0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957526-8EDC-4CA0-828B-6E990D222D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E9041B-9A0E-4419-B985-A00ECB238F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0B653F-1F10-4BE9-A6E3-079F81B659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C28DBC-1303-4361-8968-B171F87FCA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C91585-ED00-49C0-912C-C738A94920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AF1F56-5E4F-4185-9AE1-B19563CA1DB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8ECA15-8F61-403C-9690-B7737AAFCB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FB574E-DFB7-46ED-B703-4E639A8C3C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165AD9-E08B-4615-9DD2-0328775599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9C1AA-4FA8-4849-8437-8EEB6CD4EE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05FDF-1D33-4CDA-8D3A-DAF542987F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5ED7E5-A1B7-40D4-8DA8-601915A3F0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DA7210-AE2F-46B9-9D22-AF59310FAE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31D899-8C8C-4C49-A290-02DDD5DBBE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F62D86-8B42-4797-836E-69BEC0D27A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7D2163-8118-4756-BC03-44EE43D9E3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AE1785-6EB1-4BC3-9D94-E74C665C080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23C8D7-803A-4F51-A70E-CB956CDD02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D49E1E-DA59-4AF0-9761-F57CE9A64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4DB8C-7354-4AAB-9044-9812DBA3F6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C5E84-0B42-46E4-BD6B-27D1171AB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ACCB4-938E-4227-8554-D8BD3B18F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5F3A50-CAD1-47D6-A399-082A7D16F9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26494B-0092-4B3D-A3EC-CD09C248E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E441-9C96-42F0-A3B5-09C3B2314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1"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6136-B7EB-47E9-B616-20293A387A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 name=""/>
          <p:cNvGrpSpPr/>
          <p:nvPr/>
        </p:nvGrpSpPr>
        <p:grpSpPr>
          <a:xfrm>
            <a:off x="0" y="0"/>
            <a:ext cx="9144000" cy="546120"/>
            <a:chOff x="0" y="0"/>
            <a:chExt cx="9144000" cy="546120"/>
          </a:xfrm>
        </p:grpSpPr>
        <p:sp>
          <p:nvSpPr>
            <p:cNvPr id="4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5"/>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0" y="0"/>
            <a:ext cx="9144000" cy="6858000"/>
            <a:chOff x="0" y="0"/>
            <a:chExt cx="9144000" cy="6858000"/>
          </a:xfrm>
        </p:grpSpPr>
        <p:sp>
          <p:nvSpPr>
            <p:cNvPr id="9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
            <p:cNvGrpSpPr/>
            <p:nvPr/>
          </p:nvGrpSpPr>
          <p:grpSpPr>
            <a:xfrm>
              <a:off x="0" y="1066680"/>
              <a:ext cx="2867040" cy="3157560"/>
              <a:chOff x="0" y="1066680"/>
              <a:chExt cx="2867040" cy="3157560"/>
            </a:xfrm>
          </p:grpSpPr>
          <p:sp>
            <p:nvSpPr>
              <p:cNvPr id="9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6"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A5BE-7223-416D-BC32-3F6FBE97B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81F6-DCEA-44BD-9B22-45077551B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ftware Testing – 1</a:t>
            </a:r>
            <a:br>
              <a:rPr sz="5000"/>
            </a:br>
            <a:r>
              <a:rPr b="0" lang="en-US" sz="5000" spc="-1" strike="noStrike">
                <a:solidFill>
                  <a:srgbClr val="000000"/>
                </a:solidFill>
                <a:latin typeface="Arial"/>
              </a:rPr>
              <a:t> - Introduction</a:t>
            </a:r>
            <a:endParaRPr b="0" lang="en-US" sz="5000" spc="-1" strike="noStrike">
              <a:solidFill>
                <a:srgbClr val="000000"/>
              </a:solidFill>
              <a:latin typeface="Arial"/>
            </a:endParaRPr>
          </a:p>
        </p:txBody>
      </p:sp>
      <p:sp>
        <p:nvSpPr>
          <p:cNvPr id="154"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3</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monstration of proper behavior is a primary purpose of software testing, which can also be interpreted as providing evidence of quality in the context of software quality assurance, or as meeting certain quality goals</a:t>
            </a:r>
            <a:endParaRPr b="0" lang="en-US" sz="32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E15C-76AB-4D82-B3C9-46FC7F40A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mparison with the manufacturing systems, problems in software products can be corrected much more easily within the development process to remove as many defects from the product as po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software testing has two primary purposes</a:t>
            </a:r>
            <a:endParaRPr b="0" lang="en-US" sz="32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EB41-A3BB-4F21-878F-DB6838F61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Purposes of Software Testing</a:t>
            </a:r>
            <a:endParaRPr b="0" lang="en-US" sz="4400" spc="-1" strike="noStrike">
              <a:solidFill>
                <a:srgbClr val="000000"/>
              </a:solidFill>
              <a:latin typeface="Times New Roman"/>
            </a:endParaRPr>
          </a:p>
        </p:txBody>
      </p:sp>
      <p:sp>
        <p:nvSpPr>
          <p:cNvPr id="1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monstrate quality or proper behav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tect and fix problems</a:t>
            </a:r>
            <a:endParaRPr b="0" lang="en-US" sz="32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B7F3-2514-4C33-8899-6B8D3CF80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FE33-170C-46C6-98D9-B9E29C3D9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esting Shows?</a:t>
            </a:r>
            <a:endParaRPr b="0" lang="en-US" sz="4400" spc="-1" strike="noStrike">
              <a:solidFill>
                <a:srgbClr val="000000"/>
              </a:solidFill>
              <a:latin typeface="Arial"/>
            </a:endParaRPr>
          </a:p>
        </p:txBody>
      </p:sp>
      <p:pic>
        <p:nvPicPr>
          <p:cNvPr id="190" name="Picture 3" descr=""/>
          <p:cNvPicPr/>
          <p:nvPr/>
        </p:nvPicPr>
        <p:blipFill>
          <a:blip r:embed="rId1"/>
          <a:stretch/>
        </p:blipFill>
        <p:spPr>
          <a:xfrm>
            <a:off x="1714680" y="2124000"/>
            <a:ext cx="5600520" cy="3819600"/>
          </a:xfrm>
          <a:prstGeom prst="rect">
            <a:avLst/>
          </a:prstGeom>
          <a:ln w="0">
            <a:noFill/>
          </a:ln>
        </p:spPr>
      </p:pic>
      <p:sp>
        <p:nvSpPr>
          <p:cNvPr id="191" name="Rectangle 4"/>
          <p:cNvSpPr/>
          <p:nvPr/>
        </p:nvSpPr>
        <p:spPr>
          <a:xfrm>
            <a:off x="3161160" y="2023920"/>
            <a:ext cx="106236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ors</a:t>
            </a:r>
            <a:endParaRPr b="0" lang="en-US" sz="2400" spc="-1" strike="noStrike">
              <a:solidFill>
                <a:srgbClr val="000000"/>
              </a:solidFill>
              <a:latin typeface="Times New Roman"/>
            </a:endParaRPr>
          </a:p>
        </p:txBody>
      </p:sp>
      <p:sp>
        <p:nvSpPr>
          <p:cNvPr id="192" name="Rectangle 5"/>
          <p:cNvSpPr/>
          <p:nvPr/>
        </p:nvSpPr>
        <p:spPr>
          <a:xfrm>
            <a:off x="4329360" y="2570040"/>
            <a:ext cx="411048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conformance</a:t>
            </a:r>
            <a:endParaRPr b="0" lang="en-US" sz="2400" spc="-1" strike="noStrike">
              <a:solidFill>
                <a:srgbClr val="000000"/>
              </a:solidFill>
              <a:latin typeface="Times New Roman"/>
            </a:endParaRPr>
          </a:p>
        </p:txBody>
      </p:sp>
      <p:sp>
        <p:nvSpPr>
          <p:cNvPr id="193" name="Rectangle 6"/>
          <p:cNvSpPr/>
          <p:nvPr/>
        </p:nvSpPr>
        <p:spPr>
          <a:xfrm>
            <a:off x="5739480" y="3268800"/>
            <a:ext cx="202716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0" lang="en-US" sz="2400" spc="-1" strike="noStrike">
              <a:solidFill>
                <a:srgbClr val="000000"/>
              </a:solidFill>
              <a:latin typeface="Times New Roman"/>
            </a:endParaRPr>
          </a:p>
        </p:txBody>
      </p:sp>
      <p:sp>
        <p:nvSpPr>
          <p:cNvPr id="194" name="Rectangle 7"/>
          <p:cNvSpPr/>
          <p:nvPr/>
        </p:nvSpPr>
        <p:spPr>
          <a:xfrm>
            <a:off x="6779520" y="4314960"/>
            <a:ext cx="2062080" cy="6375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dication</a:t>
            </a:r>
            <a:endParaRPr b="0" lang="en-US" sz="2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qu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Activities and Generic Testing Process</a:t>
            </a:r>
            <a:endParaRPr b="0" lang="en-US" sz="4400" spc="-1" strike="noStrike">
              <a:solidFill>
                <a:srgbClr val="0000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ning and prepa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execution and relat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and follow-up</a:t>
            </a:r>
            <a:endParaRPr b="0" lang="en-US" sz="3200" spc="-1" strike="noStrike">
              <a:solidFill>
                <a:srgbClr val="000000"/>
              </a:solidFill>
              <a:latin typeface="Times New Roman"/>
            </a:endParaRPr>
          </a:p>
        </p:txBody>
      </p:sp>
      <p:sp>
        <p:nvSpPr>
          <p:cNvPr id="19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2DD4-0087-4D4B-B8E5-A43093DF7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Planning and Preparation</a:t>
            </a:r>
            <a:endParaRPr b="0" lang="en-US" sz="4400" spc="-1" strike="noStrike">
              <a:solidFill>
                <a:srgbClr val="000000"/>
              </a:solidFill>
              <a:latin typeface="Times New Roman"/>
            </a:endParaRPr>
          </a:p>
        </p:txBody>
      </p:sp>
      <p:sp>
        <p:nvSpPr>
          <p:cNvPr id="1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ing of goals for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ng an overall testing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specific test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general test procedure</a:t>
            </a:r>
            <a:endParaRPr b="0" lang="en-US" sz="3200" spc="-1" strike="noStrike">
              <a:solidFill>
                <a:srgbClr val="000000"/>
              </a:solidFill>
              <a:latin typeface="Times New Roman"/>
            </a:endParaRPr>
          </a:p>
        </p:txBody>
      </p:sp>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E536-8F95-4128-834F-D84E97704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Execution</a:t>
            </a: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on of software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 and measurement of product behavior</a:t>
            </a:r>
            <a:endParaRPr b="0" lang="en-US" sz="3200" spc="-1" strike="noStrike">
              <a:solidFill>
                <a:srgbClr val="000000"/>
              </a:solidFill>
              <a:latin typeface="Times New Roman"/>
            </a:endParaRPr>
          </a:p>
        </p:txBody>
      </p:sp>
      <p:sp>
        <p:nvSpPr>
          <p:cNvPr id="2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E376-1926-4791-B0C6-7501C3DBC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is and Follow-Up</a:t>
            </a:r>
            <a:endParaRPr b="0" lang="en-US" sz="4400" spc="-1" strike="noStrike">
              <a:solidFill>
                <a:srgbClr val="000000"/>
              </a:solidFill>
              <a:latin typeface="Times New Roman"/>
            </a:endParaRPr>
          </a:p>
        </p:txBody>
      </p:sp>
      <p:sp>
        <p:nvSpPr>
          <p:cNvPr id="2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result checking and analysis to determine if a failure has been observed, and if so, follow-up activities are initiated and monitored to ensure removal of the underlying causes, of faults, that led to the observed failures in the first place</a:t>
            </a:r>
            <a:endParaRPr b="0" lang="en-US" sz="3200" spc="-1" strike="noStrike">
              <a:solidFill>
                <a:srgbClr val="000000"/>
              </a:solidFill>
              <a:latin typeface="Times New Roman"/>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DCF2-9C38-412C-91C7-9C8860CDB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Testing Process</a:t>
            </a:r>
            <a:endParaRPr b="0" lang="en-US" sz="4400" spc="-1" strike="noStrike">
              <a:solidFill>
                <a:srgbClr val="000000"/>
              </a:solidFill>
              <a:latin typeface="Arial"/>
            </a:endParaRPr>
          </a:p>
        </p:txBody>
      </p:sp>
      <p:sp>
        <p:nvSpPr>
          <p:cNvPr id="2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2A10-8641-4FE0-B54A-CA52FD3BA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9" name="Picture 6" descr="Testing-Process1.JPG"/>
          <p:cNvPicPr/>
          <p:nvPr/>
        </p:nvPicPr>
        <p:blipFill>
          <a:blip r:embed="rId1"/>
          <a:stretch/>
        </p:blipFill>
        <p:spPr>
          <a:xfrm>
            <a:off x="457200" y="1523880"/>
            <a:ext cx="9067680" cy="473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increasing size and complexity of today’s software products, informal testing without much planning and preparation becomes inadequ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unctions, features, and related software components and implementation details could be easily overlook in such informal testing</a:t>
            </a:r>
            <a:endParaRPr b="0" lang="en-US" sz="3200" spc="-1" strike="noStrike">
              <a:solidFill>
                <a:srgbClr val="000000"/>
              </a:solidFill>
              <a:latin typeface="Times New Roman"/>
            </a:endParaRPr>
          </a:p>
        </p:txBody>
      </p:sp>
      <p:sp>
        <p:nvSpPr>
          <p:cNvPr id="21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8DB0-A227-4230-9DAB-F6456309B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p</a:t>
            </a:r>
            <a:endParaRPr b="0" lang="en-US"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first lecture after mid term exam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all have done wonderfully well on your mid term exam</a:t>
            </a:r>
            <a:endParaRPr b="0" lang="en-US" sz="32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9D8E-3F3F-459A-AD33-AD0B0B3CF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re is a strong need for planned, monitored, managed and optimized testing strategies based on systematic considerations for quality, formal models, and related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ning and preparation has these sub-activities</a:t>
            </a:r>
            <a:endParaRPr b="0" lang="en-US" sz="3200" spc="-1" strike="noStrike">
              <a:solidFill>
                <a:srgbClr val="000000"/>
              </a:solidFill>
              <a:latin typeface="Times New Roman"/>
            </a:endParaRPr>
          </a:p>
        </p:txBody>
      </p:sp>
      <p:sp>
        <p:nvSpPr>
          <p:cNvPr id="2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DD34-F635-410B-9E35-BC7D8C9B5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Activities in Test Planning and Preparation</a:t>
            </a:r>
            <a:endParaRPr b="0" lang="en-US" sz="4400" spc="-1" strike="noStrike">
              <a:solidFill>
                <a:srgbClr val="000000"/>
              </a:solidFill>
              <a:latin typeface="Times New Roman"/>
            </a:endParaRPr>
          </a:p>
        </p:txBody>
      </p:sp>
      <p:sp>
        <p:nvSpPr>
          <p:cNvPr id="217"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al setting</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and coverage goals</a:t>
            </a:r>
            <a:endParaRPr b="0" lang="en-US" sz="2400" spc="-1" strike="noStrike">
              <a:solidFill>
                <a:srgbClr val="000000"/>
              </a:solidFill>
              <a:latin typeface="Times New Roman"/>
            </a:endParaRPr>
          </a:p>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case preparation</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ng new test cases or generating automatically, selecting them from existing ones for legacy products, and organizing them in some systematic manner</a:t>
            </a:r>
            <a:endParaRPr b="0" lang="en-US" sz="2400" spc="-1" strike="noStrike">
              <a:solidFill>
                <a:srgbClr val="000000"/>
              </a:solidFill>
              <a:latin typeface="Times New Roman"/>
            </a:endParaRPr>
          </a:p>
          <a:p>
            <a:pPr marL="315360" indent="-3153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procedure preparation</a:t>
            </a:r>
            <a:endParaRPr b="0" lang="en-US" sz="3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defined and followed to ensure effective test execution, problem handling and resolution, and overall test process management</a:t>
            </a:r>
            <a:endParaRPr b="0" lang="en-US" sz="2400" spc="-1" strike="noStrike">
              <a:solidFill>
                <a:srgbClr val="000000"/>
              </a:solidFill>
              <a:latin typeface="Times New Roman"/>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7ABC-996D-443C-AE8B-AC60370A6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s a Part of QA in Overall Software Process - 1</a:t>
            </a:r>
            <a:endParaRPr b="0" lang="en-US" sz="4400" spc="-1" strike="noStrike">
              <a:solidFill>
                <a:srgbClr val="000000"/>
              </a:solidFill>
              <a:latin typeface="Times New Roman"/>
            </a:endParaRPr>
          </a:p>
        </p:txBody>
      </p:sp>
      <p:sp>
        <p:nvSpPr>
          <p:cNvPr id="2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and inspections often find different kinds of problems, and may be more effective under different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inspections and testing should be viewed more as complementary QA alternatives instead of competing ones</a:t>
            </a:r>
            <a:endParaRPr b="0" lang="en-US" sz="3200" spc="-1" strike="noStrike">
              <a:solidFill>
                <a:srgbClr val="000000"/>
              </a:solidFill>
              <a:latin typeface="Times New Roman"/>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F1A8-B505-47D6-82CC-5ADE900EC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s a Part of QA in Overall Software Process - 2</a:t>
            </a:r>
            <a:endParaRPr b="0" lang="en-US" sz="4400" spc="-1" strike="noStrike">
              <a:solidFill>
                <a:srgbClr val="000000"/>
              </a:solidFill>
              <a:latin typeface="Times New Roman"/>
            </a:endParaRPr>
          </a:p>
        </p:txBody>
      </p:sp>
      <p:sp>
        <p:nvSpPr>
          <p:cNvPr id="2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an integral part of different software development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B04E-C00B-4B22-8094-12C7ACFE8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351E-A70E-4C15-BFF9-604D7B6AF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nd Defect Removal Efficiency</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forms of testing are less than 30% efficient in finding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s of testing should be used in combination with pre-test design and code inspections to achieve high defect removal efficienc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0CED-C437-40A0-AA2F-798078961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 and Defect Type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much more effective in finding errors of commission, or things that are done wrong, than it is in finding errors of omission or things that are left out by acc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Questions about Testing</a:t>
            </a:r>
            <a:endParaRPr b="0" lang="en-US" sz="5000" spc="-1" strike="noStrike">
              <a:solidFill>
                <a:srgbClr val="000000"/>
              </a:solidFill>
              <a:latin typeface="Arial"/>
            </a:endParaRPr>
          </a:p>
        </p:txBody>
      </p:sp>
      <p:sp>
        <p:nvSpPr>
          <p:cNvPr id="232"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asic, testing techniques, testing activities and management</a:t>
            </a:r>
            <a:endParaRPr b="0" lang="en-US" sz="3400" spc="-1" strike="noStrike">
              <a:solidFill>
                <a:srgbClr val="000000"/>
              </a:solidFill>
              <a:latin typeface="Arial"/>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BBAF-0DE9-46A5-B097-CABE597C2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Questions about Testing</a:t>
            </a:r>
            <a:endParaRPr b="0" lang="en-US" sz="4400" spc="-1" strike="noStrike">
              <a:solidFill>
                <a:srgbClr val="000000"/>
              </a:solidFill>
              <a:latin typeface="Times New Roman"/>
            </a:endParaRPr>
          </a:p>
        </p:txBody>
      </p:sp>
      <p:sp>
        <p:nvSpPr>
          <p:cNvPr id="2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asic questions about testing are related to the objects being tested, perspectives and views used in testing, and overall management and organization of test activities</a:t>
            </a:r>
            <a:endParaRPr b="0" lang="en-US" sz="3200" spc="-1" strike="noStrike">
              <a:solidFill>
                <a:srgbClr val="000000"/>
              </a:solidFill>
              <a:latin typeface="Times New Roman"/>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AD81-27FF-4869-B7E7-8A9D5A7ED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asic Questions about Testing</a:t>
            </a:r>
            <a:endParaRPr b="0" lang="en-US" sz="44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tifacts are tes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test, and what kind of faults is f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or at what defect level, to stop tes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 information, product reliability goals, </a:t>
            </a:r>
            <a:endParaRPr b="0" lang="en-US" sz="2800" spc="-1" strike="noStrike">
              <a:solidFill>
                <a:srgbClr val="000000"/>
              </a:solidFill>
              <a:latin typeface="Times New Roman"/>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1A10-DC7F-46DF-8DE8-DD64EECA3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bout Testing Techniques</a:t>
            </a:r>
            <a:endParaRPr b="0" lang="en-US" sz="4400" spc="-1" strike="noStrike">
              <a:solidFill>
                <a:srgbClr val="000000"/>
              </a:solidFill>
              <a:latin typeface="Times New Roman"/>
            </a:endParaRPr>
          </a:p>
        </p:txBody>
      </p:sp>
      <p:sp>
        <p:nvSpPr>
          <p:cNvPr id="2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testing techniques can be applied to perform testing in different sub-phases, for different types of products, and under different environ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questions regarding these testing techniques can help us get a better understanding of many related issues</a:t>
            </a:r>
            <a:endParaRPr b="0" lang="en-US" sz="3200" spc="-1" strike="noStrike">
              <a:solidFill>
                <a:srgbClr val="000000"/>
              </a:solidFill>
              <a:latin typeface="Times New Roman"/>
            </a:endParaRPr>
          </a:p>
        </p:txBody>
      </p:sp>
      <p:sp>
        <p:nvSpPr>
          <p:cNvPr id="2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0F41-50CB-44B2-B4FE-83BD65771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s Lecture</a:t>
            </a:r>
            <a:endParaRPr b="0" lang="en-US" sz="4400" spc="-1" strike="noStrike">
              <a:solidFill>
                <a:srgbClr val="0000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ing today, we’ll be starting a series of lectures on software testing and the role of software testing in software quality assurance and qualit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et’s begin</a:t>
            </a:r>
            <a:endParaRPr b="0" lang="en-US" sz="32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B62D-3F31-4BFE-B618-61082BC1A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s about Testing Techniques - 1</a:t>
            </a:r>
            <a:endParaRPr b="0" lang="en-US" sz="44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pecific testing techniqu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underlying model used in a specific testing techni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basic models: 1) based on simple structures such as checklists and partitions, and 2) based on finite-state machines</a:t>
            </a:r>
            <a:endParaRPr b="0" lang="en-US" sz="2800" spc="-1" strike="noStrike">
              <a:solidFill>
                <a:srgbClr val="000000"/>
              </a:solidFill>
              <a:latin typeface="Times New Roman"/>
            </a:endParaRPr>
          </a:p>
        </p:txBody>
      </p:sp>
      <p:sp>
        <p:nvSpPr>
          <p:cNvPr id="2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DE0C-89CD-4759-A36A-DF6FB4B86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s about Testing Techniques - 2</a:t>
            </a:r>
            <a:endParaRPr b="0" lang="en-US" sz="4400" spc="-1" strike="noStrike">
              <a:solidFill>
                <a:srgbClr val="000000"/>
              </a:solidFill>
              <a:latin typeface="Times New Roman"/>
            </a:endParaRPr>
          </a:p>
        </p:txBody>
      </p:sp>
      <p:sp>
        <p:nvSpPr>
          <p:cNvPr id="2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echniques for testing in other domains applicable to software tes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efect seeding, mutation, immunization used in physical domains and comes under specialized testing in softw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ultiple testing techniques are available, can they be combined or integrated for better effectiveness or effici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B9B0-F48E-436B-BFDB-C91D55278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bout Test Activities and Management  </a:t>
            </a:r>
            <a:endParaRPr b="0" lang="en-US" sz="4400" spc="-1" strike="noStrike">
              <a:solidFill>
                <a:srgbClr val="000000"/>
              </a:solidFill>
              <a:latin typeface="Times New Roman"/>
            </a:endParaRPr>
          </a:p>
        </p:txBody>
      </p:sp>
      <p:sp>
        <p:nvSpPr>
          <p:cNvPr id="2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other questions can also be used to help us analyze and classify different test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key questions are about initiators and participants of these activities, organization and management of specific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2060"/>
                </a:solidFill>
                <a:latin typeface="Times New Roman"/>
              </a:rPr>
              <a:t>Eight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855E-FCDB-480A-8301-E12A64891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s about Test Activities and Management - 1</a:t>
            </a:r>
            <a:endParaRPr b="0" lang="en-US" sz="44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performs specific activiti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an specific test activities be performe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cess is followed for these test activiti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est automation possible? And if so what kind of automated testing tools are available and usable for specific applications?</a:t>
            </a:r>
            <a:endParaRPr b="0" lang="en-US" sz="3200" spc="-1" strike="noStrike">
              <a:solidFill>
                <a:srgbClr val="000000"/>
              </a:solidFill>
              <a:latin typeface="Times New Roman"/>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3591-BA71-4CEF-B5F4-9EA2E2E64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s about Test Activities and Management - 2</a:t>
            </a:r>
            <a:endParaRPr b="0" lang="en-US" sz="4400" spc="-1" strike="noStrike">
              <a:solidFill>
                <a:srgbClr val="000000"/>
              </a:solidFill>
              <a:latin typeface="Times New Roman"/>
            </a:endParaRPr>
          </a:p>
        </p:txBody>
      </p:sp>
      <p:sp>
        <p:nvSpPr>
          <p:cNvPr id="256"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tifacts are used to manage the testing process and related activiti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lationship between testing and various defect-related concept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general hardware /software / organizational environment for testing?</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duct type or market segment for product under testing?</a:t>
            </a:r>
            <a:endParaRPr b="0" lang="en-US" sz="3200" spc="-1" strike="noStrike">
              <a:solidFill>
                <a:srgbClr val="000000"/>
              </a:solidFill>
              <a:latin typeface="Times New Roman"/>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6ECF-3F68-4213-8389-581BC246D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test planners and testers need to answer those question which are relevant for their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eries of lectures on software testing, as a mechanism for quality control and quality assurance, we will also address them</a:t>
            </a:r>
            <a:endParaRPr b="0" lang="en-US" sz="3200" spc="-1" strike="noStrike">
              <a:solidFill>
                <a:srgbClr val="000000"/>
              </a:solidFill>
              <a:latin typeface="Times New Roman"/>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D870-F218-4729-BB6E-BDE55F5B2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Quality Engineering: Testing, Quality Assurance, and Quantifiable Improvement by Jeff Tian, IEEE Computer Society, 2005 (Chapter 6.1-6.2)</a:t>
            </a:r>
            <a:endParaRPr b="0" lang="en-US" sz="3200" spc="-1" strike="noStrike">
              <a:solidFill>
                <a:srgbClr val="000000"/>
              </a:solidFill>
              <a:latin typeface="Times New Roman"/>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A0DD-0357-4AB2-9862-855864FCE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0E99-AB1E-4F7D-8440-AAF1C1E1C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Software Testing - 1</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onyms: checking, assessing, exam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one of the most important parts of quality assurance and the most performed QA activ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Software Testing - 2</a:t>
            </a:r>
            <a:endParaRPr b="0" lang="en-US" sz="44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has been a basic form of defect removal since software industry beg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jority of software projects, it is the </a:t>
            </a:r>
            <a:r>
              <a:rPr b="0" i="1" lang="en-US" sz="3200" spc="-1" strike="noStrike">
                <a:solidFill>
                  <a:srgbClr val="000000"/>
                </a:solidFill>
                <a:latin typeface="Times New Roman"/>
              </a:rPr>
              <a:t>only</a:t>
            </a:r>
            <a:r>
              <a:rPr b="0" lang="en-US" sz="3200" spc="-1" strike="noStrike">
                <a:solidFill>
                  <a:srgbClr val="000000"/>
                </a:solidFill>
                <a:latin typeface="Times New Roman"/>
              </a:rPr>
              <a:t> form of defect removal utiliz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E6F4-63B9-45D0-A60E-2DD53CCB3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Software Testing - 3</a:t>
            </a:r>
            <a:endParaRPr b="0" lang="en-US" sz="4400" spc="-1" strike="noStrike">
              <a:solidFill>
                <a:srgbClr val="000000"/>
              </a:solidFill>
              <a:latin typeface="Times New Roman"/>
            </a:endParaRPr>
          </a:p>
        </p:txBody>
      </p:sp>
      <p:sp>
        <p:nvSpPr>
          <p:cNvPr id="1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ic idea of testing involves the execution of software and the observation of its behavior or outcome</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a failure is observed, the execution record is analyzed to locate and fix the faults that caused the failure</a:t>
            </a:r>
            <a:endParaRPr b="0" lang="en-US" sz="3000" spc="-1" strike="noStrike">
              <a:solidFill>
                <a:srgbClr val="000000"/>
              </a:solidFill>
              <a:latin typeface="Times New Roman"/>
            </a:endParaRPr>
          </a:p>
          <a:p>
            <a:pPr marL="318960" indent="-3189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wise, we gain some confidence that the software under testing is more likely to fulfill its designated functions</a:t>
            </a:r>
            <a:endParaRPr b="0" lang="en-US" sz="3000" spc="-1" strike="noStrike">
              <a:solidFill>
                <a:srgbClr val="000000"/>
              </a:solidFill>
              <a:latin typeface="Times New Roman"/>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7CB3-5730-43CA-8BC4-0E37F8372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oftware Testing? - 1</a:t>
            </a:r>
            <a:endParaRPr b="0" lang="en-US" sz="4400" spc="-1" strike="noStrike">
              <a:solidFill>
                <a:srgbClr val="0000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software testing is to ensure that the software systems would work as expected when they are used by their target customers and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oftware products, software testing provides a mechanism to demonstrate their operation through controlled execution</a:t>
            </a:r>
            <a:endParaRPr b="0" lang="en-US" sz="3200" spc="-1" strike="noStrike">
              <a:solidFill>
                <a:srgbClr val="000000"/>
              </a:solidFill>
              <a:latin typeface="Times New Roman"/>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93DA-9994-4070-B47D-1F35C8583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74" name="PlaceHolder 2"/>
          <p:cNvSpPr>
            <a:spLocks noGrp="1"/>
          </p:cNvSpPr>
          <p:nvPr>
            <p:ph type="subTitle"/>
          </p:nvPr>
        </p:nvSpPr>
        <p:spPr>
          <a:xfrm>
            <a:off x="1143000" y="281916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ftware Testing</a:t>
            </a:r>
            <a:endParaRPr b="0" lang="en-US" sz="3400" spc="-1" strike="noStrike">
              <a:solidFill>
                <a:srgbClr val="000000"/>
              </a:solidFill>
              <a:latin typeface="Arial"/>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D0B0-B0A8-4144-9D71-7AA00ADF7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Testing</a:t>
            </a:r>
            <a:endParaRPr b="0" lang="en-US" sz="4400" spc="-1" strike="noStrike">
              <a:solidFill>
                <a:srgbClr val="0000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dynamic execution of software and the comparison of results of that execution against a set of known, pre-determined criter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ers Jon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ED23-7C58-40B1-8D15-4AED34CBF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9:05:19Z</dcterms:created>
  <dc:creator>Ghulam Ahmad Farrukh</dc:creator>
  <dc:description/>
  <dc:language>en-US</dc:language>
  <cp:lastModifiedBy>ahmadmohsin</cp:lastModifiedBy>
  <dcterms:modified xsi:type="dcterms:W3CDTF">2009-05-30T04:46:09Z</dcterms:modified>
  <cp:revision>118</cp:revision>
  <dc:subject/>
  <dc:title>Software Quality Assurance and Testing</dc:title>
</cp:coreProperties>
</file>